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0B3-E12C-43FE-AEF5-29325471DB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EBA9-2E32-4D4B-B7D1-81BF8FB594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66B6-8138-4538-B139-AC7BC9B2A3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3A42-57F0-4BAC-BB89-D3ECF985EB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02C-2777-4F26-A619-F38EFC3E17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7CB-B59F-4708-BFD0-A3355F577C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800-3CD0-4177-87C9-85CD660E9C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0844-F43B-4B23-9DEE-5B9C751948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AAE7-C087-462D-A94E-740583748F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8C19-2446-41E6-BAB1-B00F8EEC67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238-6042-4FEA-8869-6EFABDC2C7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741-33A8-44DF-BCDF-9DDAFE840A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080B-6E85-42D9-A971-BDF25B5E29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93D-F943-45D9-ACD1-4E7BD7A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2BC-5C38-4C62-B8C2-97E78F66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172-2846-4B81-A3E8-88AB97A1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543-09DE-44FA-A86A-F73B9B8E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FBBF-1738-4755-813E-93F53253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7D4CB-831A-48B0-8A52-9E81CBD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5DD91-6D6A-40F7-A82B-E7E03A62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CEB33-9911-46E3-A73E-8CC8301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D65B-ED7E-4E26-8697-09F8533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91B6-00F1-4353-ABBF-167044A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0500-558C-4E9B-B4FE-09FEA91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A92-79B7-47E3-8100-0D11B880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2D872-2009-4311-B703-0224043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E7670-46DA-4AFF-8F32-5ACF264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3776A-701D-42AD-946A-A5B0E14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0E11-8A4C-4AA6-93E2-61B053E2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7B78-7998-445D-A652-BA87C31C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3EFB-51DE-4697-9B10-467D0FC9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6420-5C05-4823-B3CB-E2F8367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FDF2-6235-4359-BDA7-35400E9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C106-AF9D-41CD-9B7B-AE038FF5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DEE4-240D-47BA-BC9F-724D241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C7E-480B-4782-A557-99E38FB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EDA1-D383-4845-A333-C652AE2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3B01-BE31-4FC8-932D-8F90CAF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906D-4361-4449-8B3F-EBEF43F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31DE-1D77-4BA2-B117-BF873B6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C64C-288A-430F-834D-3CC002E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9E9C-67B0-476D-B503-EF6D94A4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3AC9-F376-43B7-8E04-6B368CD6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49FEE-9BB5-44B0-88EB-58F472F4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4647A-08D5-4506-BBC5-61245E0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504F2-9E72-4E17-B81E-44664468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6AA-DE45-4F71-A604-B8D6337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4F451-302D-4700-A454-4A7E8806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98F39-7317-4043-B7BB-0764BE3C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21CED-3593-4479-A7B9-6D796994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13B89-F1C4-426F-8A78-55863B8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5AF3D-23C2-436D-A275-A25C8B6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DF95B-4166-4AE6-9CB4-05F5353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EF391-BF46-49B9-AC4B-DC5F100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7EDDB-4CCD-486B-90C0-C7EF7A2F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820CB-60EC-44F2-AC55-DE35EB93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34F63-EE69-4C5E-A192-6C692B82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731-8723-4C50-A696-22E52C1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30A8B-749B-4A60-8E1A-67DC116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9B541-9CC2-4E9D-8327-314CFA6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8D0B5-829C-41A0-B2C1-01FD95D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6FE48-1128-41EC-91AA-C1855F6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766F3-F3E0-40C7-921B-32B5C90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C5A0E-3F7C-4C07-A78C-8757682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DA67E-608C-4DA9-9901-0BBF54F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378E1-2629-4505-9BAC-8C32077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CFB42-12C5-4200-9D5A-9DE094B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C385C-9360-4BC1-9EE8-2020DBDD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5B9-CFE7-45AD-9758-05E6D96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4B828-0C47-4A77-88C5-F711198E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19857-3AB5-426E-9287-779F1F44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D0B47-9FD5-4F82-A14D-171B167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1C98F-78B6-48B8-9E5D-456A3BB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60BD5-8ACD-4EE8-BBFE-44090A4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9B9A7-9919-44C6-A65F-71780CB9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97933-F3C8-406E-BB66-26B4D37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4D416-A1A3-4E78-84B7-F2F06BD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25C3E-1738-4923-9289-B3A869A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56FE6-EAE6-4E8B-BF50-A413C30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B17-258F-4B96-8F6C-D678586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60C2D-B3C7-40B9-B35C-A7DDB2BA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F35AC-A105-4CDF-A389-1032E418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FE465-5B14-4999-B9B5-58500EEE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033-C633-414B-AEB1-5C53201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C10-9B1A-4439-A740-03ADBAA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46D-D21E-4E63-B90B-CEA019F4BACD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A81-F4D9-47F9-A8C8-86EE3936D74B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BE9-9406-4FD8-9E34-4DB37A2203D8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71B-0334-45AA-A091-71370AF7DF27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1C8-3558-4ACB-A5CE-CDB87F2BAE3A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A0D-3A54-4549-B354-FA98EC6A7BD3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cey.net/lit/crit19/basni" TargetMode="External"/><Relationship Id="rId2" Type="http://schemas.openxmlformats.org/officeDocument/2006/relationships/hyperlink" Target="http://literra.websib.ru/volsky/text_article.htm?76" TargetMode="External"/><Relationship Id="rId3" Type="http://schemas.openxmlformats.org/officeDocument/2006/relationships/hyperlink" Target="http://www.biografguru.ru/about/krilov/?q=3429&amp;p=1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109440" y="3816360"/>
            <a:ext cx="9113760" cy="23893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Крылов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аль сей басни такова»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ак как с помощью животных  и вещей неодушевленных дает урок человеку, представляя ему в пример существа, отличные от него натурою и совершенно для него чуждые, читая басню человек понимает, что это про не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3" descr="чел с книгой.jpg"/>
          <p:cNvPicPr/>
          <p:nvPr/>
        </p:nvPicPr>
        <p:blipFill>
          <a:blip r:embed="rId2"/>
          <a:stretch/>
        </p:blipFill>
        <p:spPr>
          <a:xfrm>
            <a:off x="2133720" y="3645000"/>
            <a:ext cx="4876560" cy="3024000"/>
          </a:xfrm>
          <a:prstGeom prst="rect">
            <a:avLst/>
          </a:prstGeom>
          <a:ln w="0">
            <a:noFill/>
          </a:ln>
        </p:spPr>
      </p:pic>
      <p:sp>
        <p:nvSpPr>
          <p:cNvPr id="283" name="Управляющая кнопка: назад 4"/>
          <p:cNvSpPr/>
          <p:nvPr/>
        </p:nvSpPr>
        <p:spPr>
          <a:xfrm>
            <a:off x="795672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Изображение  чудесного сообщается некоторым образом и той морали, которая сокрыта под ним стихотворцем, а читатель, чтобы достигнуть до этой морали, согласен и самую чудесность принимать за естественно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1"/>
              </a:rPr>
              <a:t>Василий Андреевич Жуковский. О БАСНЕ И БАСНЯХ КРЫЛ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2"/>
              </a:rPr>
              <a:t>Нестеренко В. Произведение морали (анализ басн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c66bb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Constantia"/>
                <a:hlinkClick r:id="rId3"/>
              </a:rPr>
              <a:t>Биография  Ивана Андреевича Крыл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Заголовок 2" descr=""/>
          <p:cNvPicPr/>
          <p:nvPr/>
        </p:nvPicPr>
        <p:blipFill>
          <a:blip r:embed="rId4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12120" cy="62420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крылов.jpg"/>
          <p:cNvPicPr/>
          <p:nvPr/>
        </p:nvPicPr>
        <p:blipFill>
          <a:blip r:embed="rId2"/>
          <a:stretch/>
        </p:blipFill>
        <p:spPr>
          <a:xfrm>
            <a:off x="1979640" y="0"/>
            <a:ext cx="4968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128520" y="146160"/>
            <a:ext cx="8564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132840" cy="68709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свеча.jpg"/>
          <p:cNvPicPr/>
          <p:nvPr/>
        </p:nvPicPr>
        <p:blipFill>
          <a:blip r:embed="rId2"/>
          <a:stretch/>
        </p:blipFill>
        <p:spPr>
          <a:xfrm>
            <a:off x="6227640" y="260280"/>
            <a:ext cx="2762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71280" y="1483920"/>
            <a:ext cx="7715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отворный рассказ происшествия, в котором действующими лицами бывают или животные, или герои неодушевленны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9634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это.png"/>
          <p:cNvPicPr/>
          <p:nvPr/>
        </p:nvPicPr>
        <p:blipFill>
          <a:blip r:embed="rId2"/>
          <a:stretch/>
        </p:blipFill>
        <p:spPr>
          <a:xfrm>
            <a:off x="5292720" y="314172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Это впечатление в уме какой-нибудь нравственной истины, заимствуемой из общежития и, следовательно, более или менее полезно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мартыха.jpg"/>
          <p:cNvPicPr/>
          <p:nvPr/>
        </p:nvPicPr>
        <p:blipFill>
          <a:blip r:embed="rId2"/>
          <a:stretch/>
        </p:blipFill>
        <p:spPr>
          <a:xfrm>
            <a:off x="3924360" y="3213000"/>
            <a:ext cx="468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4920" y="2997000"/>
            <a:ext cx="75294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собенность характер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Удовольствие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сравнивать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 вымышленное с существующи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Басня есть нравственный 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у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</a:rPr>
              <a:t>Прелесть чудесно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324000" y="-6480"/>
            <a:ext cx="772956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оторою каждое животное отличено от другого. Басня есть мораль в действии; в ней общие понятия нравственности, извлекаемые из общежития, применяются к случаю частному. Мир басни- это чистое зеркало, в котором отражается 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Constantia"/>
              </a:rPr>
              <a:t>мир человеческий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Животные представляют в не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еловека. Каждое животное, имее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тоянный характер, например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ходит на сцену лисица — и м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дим  льстеца или обманщ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Image2290.jpg"/>
          <p:cNvPicPr/>
          <p:nvPr/>
        </p:nvPicPr>
        <p:blipFill>
          <a:blip r:embed="rId2"/>
          <a:stretch/>
        </p:blipFill>
        <p:spPr>
          <a:xfrm>
            <a:off x="6180120" y="3357720"/>
            <a:ext cx="2963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еренося воображение читателя в новый мечтательный мир, Крылов доставляете ему удовольствие 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равнива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вымышленное с существующим (которому первое служит подобием), а удовольствие сравнения делает и саму мораль привлекательн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693280" cy="135432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назад 3"/>
          <p:cNvSpPr/>
          <p:nvPr/>
        </p:nvSpPr>
        <p:spPr>
          <a:xfrm>
            <a:off x="7812000" y="5805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0:05:21Z</dcterms:created>
  <dc:creator>я</dc:creator>
  <dc:description/>
  <dc:language>en-US</dc:language>
  <cp:lastModifiedBy>я</cp:lastModifiedBy>
  <dcterms:modified xsi:type="dcterms:W3CDTF">2011-04-26T10:45:19Z</dcterms:modified>
  <cp:revision>15</cp:revision>
  <dc:subject/>
  <dc:title>Выполнила: ученица 5б класса Аксенова Анна.</dc:title>
</cp:coreProperties>
</file>